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D254-9F5D-4DD0-9F72-BD588DC79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B368-82BA-40FC-ABF4-EC13704D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3E428-E372-47FE-9838-752BD51E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4AB05-0B27-4767-B570-16C75EA3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98F33-D9C9-40D7-9B45-BD7855BF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7229F5-E05F-49F4-B5D9-7FBD1583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45086C-9C35-4A8B-BE0F-6EC038B2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2135C8-7A30-4E29-8D43-3106555F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F52A3-308A-458D-A01C-986FC365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32FF29-9032-478A-BB7C-A892A115C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16481-8BCC-4E77-A75B-3D25C788C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C98F83-6474-41EE-A601-3BEAF3569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8FFC-CBF5-4696-A9BD-035A03810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24D68-498D-4748-8F33-AE128B04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AD690-B109-4203-9C94-B598369A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31470-4732-491B-8415-DFBF5CCD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98CF0B-76B5-4C89-A671-10140168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07CFDE-BF33-4915-B777-A0E9CC7D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1E7BC1-2E16-48A2-A5E1-0A49B3CF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5B09E0-0475-45E3-AB21-17F0269E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B8A5B0-E4C0-44C5-BC4C-04D975FE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6FD60B-7227-43FD-A672-F0C5BD32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F4536-5BDA-4275-B158-E0FFBF36F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6A6E-0C21-4D80-9AEF-A31464C5A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5788A-076E-4D82-895B-56F603F58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C6DD3-FAA4-4F47-8AC6-AEAB7897E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61DA8-3967-4196-AD4B-8C1698C8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E0395A-3F0F-48B4-91DC-5FAEA5B1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76820C-B4FA-4A7A-BA2F-E9891C02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9BBA1-E072-48F1-9D58-60BB6B5F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35397-AD12-4B50-BA4C-1B8AE98B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CE0ADC-84DB-4422-ABF8-AEE2EFB0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F701E-3951-428E-BB20-57877424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AEEAF-0180-464E-AD81-2C3C4FA0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850B-08ED-4F1E-831F-C3D7CC8DD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7DBCC-78ED-4A69-AA94-4CEE3CB6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224B2-C925-4608-BFBD-CD60502AB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BD410-C36D-45C0-963D-869AF4B3B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01244C-0AB5-47AF-BD16-78496DC29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48AEDC-E6A8-4A18-9921-729D1068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E27C28-BA3C-41C0-B6D3-93D039A4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DF293E-595D-4D3A-A3CF-073B143A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FB083B-5562-4C76-B759-A1CA8BE0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31826C-4E71-4DC3-A429-EB1FB09C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9E5AD9-D973-42B6-84A0-59743DF5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B7BA-748E-4F89-BAAD-B580BAFA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0CD2C5-571A-4711-81F7-939F353D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FEF61E-417B-45B9-8350-33485D51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75FA22-F338-4237-86D8-263B2384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99EBED-4FDC-41CE-A9BA-DD7FA8104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065233-3BCD-485B-9C07-F84291F45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72F0EE-608A-4B37-BA7A-B095BAE1A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473CA5-1BD1-4931-A862-12E6F50B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FEA398-201C-4270-B1D3-FB914177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E704FF-0DDA-4676-BE92-F0A50FF5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9CEE72-6DA2-4553-BC77-F0319F52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6C20-D70C-433D-8F9A-F1593C59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CCC741-D886-41EE-A81A-9593593B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A312E1-AE60-4665-93CA-7E169DAA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A42C6D-3258-4D5A-B015-5C453F30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7AEF63-E7E4-41E4-B182-FA581586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11A2F0-B903-4625-98FA-D50017C8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68F0D5-98C2-4650-B2A0-6EE371CFB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D207BE-F349-433C-9740-05D2912FE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F413EC-31CF-4548-8809-3584D0F98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1EDF8A-7F10-450C-A6C8-07633F8B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39FE3C-6CA2-4743-A72C-A74EA90D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A946-CA42-4254-BBB9-996B79A1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155663-5AF5-497B-AF87-0971C394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F3AD5A-8028-4CED-8ADD-5634A145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F0D306-E75A-4CE3-BAB0-3DE4A77E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EA6785-6A37-41E2-9CC1-DDE3BDCD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41CB33-E412-474F-909A-6DEA1096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F09D92-16CF-40D8-8B2F-CA3C0149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F68F1F-A2C5-49DD-8B34-A27691E5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6FC797-3704-4C98-B8E4-D26F9046A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C3A241-6BC5-49EA-8923-181CF0C5E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E72614-ACEE-4F44-8D7D-82601326E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D820-8C33-4AC2-96D5-BB96C57F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5E8AB8-FE40-4413-8580-7454F085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462AF0-011D-4602-ACFC-3D76902B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93230C-5E85-47B3-A4D9-9F2C284F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7DB823-7C85-4997-9682-D174A0E4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616AFF-9A92-49AC-89CA-D361AC1A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AFB062-5704-49E2-916C-31779EB5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6A7618-D7B2-415F-8519-AA90D514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B7587A-AC48-465B-8742-8A624BBB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E3B6FF-5F00-473D-A040-56140127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45829B-3C0C-4F39-A2B0-9396D088B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1E11-7EB9-4B3E-80B9-9D8FBBBB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6FF267-5027-4AC3-9D9A-C86BA3F30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2DD479-CB85-4F8D-A487-174240AC1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24DB89-C093-45B1-ACB9-D131920E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EF9778-76D4-4B3E-81E9-1D76BD19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A062A9-BC60-45D7-9016-B6511262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631991-1AB5-4DE3-B50B-FB20E370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1A3736-F3B5-4EFB-A1D5-6A054279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2869D8-A517-4EBD-9CC9-75E3156A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47568B-8D0E-473F-AD82-46D35A44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23A1A6-DFDF-4304-9059-5A40DF97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5ACE-214D-43BF-8BCA-6088D91E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BD676E-3374-4D0F-B391-D91C2962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62CD44-B087-4F6E-945F-1E2B14232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7EBC96-A665-418B-9E98-64A439197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3C86C8-CE0D-46FB-9F54-1AEF31CA5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768410-C7DF-4845-A244-292CCD78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23C4D0-7FFD-4138-8418-32E868DA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772654-906E-4185-8B06-78B3ECC4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BFEE64-3481-4B1E-8D44-B661D13A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A5FB90-0193-48AD-B6C5-70F7805C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783EFC-247A-47A6-A9C3-7FDA6FF7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823F-FD9D-4D5E-8933-D688A0C9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DBC2-A64B-488F-A123-B1642EBD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A23CC7-EA72-429F-9314-FDF3648E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E1DCB5-967A-4B1E-A83F-8D3C3E16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2788EA-FC2F-487A-8906-4C3C994A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2AD2C7-2026-49E9-A4A1-489878F43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179929-91CE-4956-83ED-88F8CACC2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EB8D23-9EE6-4258-B2B7-E5BF2C478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479E2D-93C3-435E-AEED-03F0E334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9007DD-23CD-4264-BF9A-1F0BE7B7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4BCC44-FBE2-49CD-A8D2-5E8BAE04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0FEF2D-2E7B-46D0-BBA6-72B089FB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C57C-891B-4FC3-92DF-7CBBDA5D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2119A1-A2B8-4855-B2CA-FE42E057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EC36B0-E6AE-4185-80B0-DB6AD0CC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AC3857-3A99-4812-93C7-4DDFCB26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3622B0-D099-4D17-AC8D-5B7C9E4F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0FDCDA-7116-4435-85E9-32CB2FA9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DC6F1A-C2B0-4F86-92A5-80D232425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F50920-174D-4490-BDA6-23FCEB056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4221D1-6A55-4FDA-9C88-64EDEAC53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9E95E9-F628-4E8D-9516-92FBFAA0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2C7A80-7B99-4B98-BA81-C87408AD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052A-D99C-4EE8-B465-493C6E88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7BD7C3-F8C7-4601-8B0D-76DAD548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68F892-9923-4F92-8528-09D21077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A2D35F-993C-4F8B-AB8D-4B07CF0D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61539A-E053-46AB-B304-3F2AA788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8C59C5-6903-43C0-AC91-BBF27AE6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25A8A4-AE0F-43C6-920B-52123B42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B57424-3DCE-4CC9-9A87-71849152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0F78C1-C228-4882-A1D4-BA2313C59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DCED76-7145-4808-9438-12A07579D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4F51C5-F72B-4D28-9AC3-034C65F14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02EE-BD5E-4575-AA79-4CBB376D1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EEB9A5-FD3F-48E3-8DC9-BFCBAEAA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8C142E-ECB9-4382-B419-1C902608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CD4C75-50AC-42F8-82A3-7EAC34C0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6E213D-7AE8-430D-95B2-27B23A8B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4645FB-6405-4E06-B541-2548CB44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4DA9EB-7362-4488-838B-8049E500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F9946B-1E58-40FA-BDBF-3B6AB7CE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310228-5E0D-4A25-BE27-399AD807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E9AE46-2850-4671-ACFF-F9A4D793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C4E749-73DC-4EF3-8027-4EEF04119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72F0-DA3B-434C-95B5-54BBB0DD2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53A856-F762-4C22-A82B-7C42C48A2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06E2BC-FEBE-4070-B015-E97F3D8B9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4131D8-CB8C-4F61-A936-782B6E71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1EA648-6002-41BB-AF6A-B7E3984A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CF6E31-73DF-4CF0-B87B-37D1ADC2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CC39DA-10BD-4098-B29E-2373287A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D9189E-2D41-4558-BD48-54AD7648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C57613-ECC3-48F6-A1DD-72AC9BDA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BA409A-4B84-4CBE-AA81-6D2974F1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64ADA3-5B32-4027-BE08-A1909EAD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737C9-ADD1-4E6B-9737-CDB12830C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9111EE-0C7F-408B-9C8B-E766AC0C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FF0138-3142-4855-B865-2FFB47AC1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CF62C0-DA27-480C-A0E2-2A2F1C6C2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0288A-B3E9-4B0A-823B-D3873005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05E14-BA2D-4E37-A273-DB477C40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56D22-5BE1-432C-99FF-DE332DF6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6BD1C-353E-47CF-B4E0-21F7451F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060F-C7DE-475D-8948-123CB3BE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A33AB-6A79-4AE4-8C7C-2BB83D08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4F008-8475-4C9F-8DC2-FB2A4DD1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C8F57-8539-49BA-9B99-DA4775C2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6787B-305E-460B-A0D9-C3B6F1FD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E16F3-7B1E-4FCA-A443-A841EEC5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D495B-812E-4CA0-B0C8-B44E160A2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74E40-CAD9-42D8-8241-9528B5BBA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307BD-2705-433F-9087-0D5BD1625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A7AB9-5504-4171-BAD6-A6E8AE4F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EABA0-705F-4019-BC10-7E91D065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2533-C2C9-4498-B55E-51E3C79C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B7315-F019-4E4C-866A-25F67CC7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B4895-AD17-4734-B316-C4B12614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309FC-0E57-4387-BB66-D64A1C4E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5D5CA-364A-4611-8E02-77CFD025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2B1AE-418C-4620-9A69-E23EC4C4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837D9-6278-4FCE-BAFE-3951F3AF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98AAC-1D37-4EBC-B681-60C55CAF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D54D0-C754-4E31-9D98-4AF65FD77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034C1-C342-4F5B-B6F1-B219A33D0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77C09-F3AE-4BDA-8FEE-0A8316D71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CD3E-628A-4EB5-A8FF-06CD7D0D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185A8-6C06-4788-AC5D-616E1413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C502F-AE99-4DC2-AE77-F762DF30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6C116-705B-48E8-BC7B-7B64B4E1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DD57F-DDB3-4836-9AEC-94F60C0F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D9EE5-93AE-43FB-87DE-4B802F7A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DFDDA-3CE4-4DD2-9E36-7E5A95C9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BFFE8-0801-479D-8613-767735B9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D56F3-267B-46E3-A059-D59B756E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5D116-D2CA-44EB-A7E5-0399C9EF7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5912C-B828-4511-A692-1B61387E7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61B9-29A6-4F88-B5B1-086D2645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FBE69-8676-4B09-865D-DE8898067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F5708-FA06-46DA-A2F0-DA80320B7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9E998-D920-432C-8580-60676C23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F60F6-9702-4EFA-B427-AEF66929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62D2B-167A-4A4A-83FC-B66676F8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245E2-8673-4C16-8603-DFAE3EF6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B40D9-68EC-4642-91EF-8434E6BE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1045C-7CC7-436F-82B8-B7078C54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D4607-F879-44A7-A513-C1516B81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B7082-9BCB-4D26-93F1-735A42D5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B98E-80DD-4E79-8B55-BE3986A8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83C42-7100-42AB-943C-DE402502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D32AD-75A3-404C-9C6C-4069767B6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FA107-5B7B-4BC0-965D-8DF035592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EA975-8C12-4CC8-9EEE-F468AFCC8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8CE44-3189-4DD8-BC44-DB24D05A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6E15E-E3E9-49BF-AC94-2B031D2A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0941C-9089-4B0E-81D3-E6D79A2F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BFD13-1206-4423-8BEF-670CEB21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F0674-2A5F-4B38-BE06-F073F45B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3C5CF-37A1-4128-B993-188D9BDF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8013-6813-4A14-860E-777B3E08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525AA-CE36-43E3-AB13-0351DEE4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0F9D3-0AD5-467C-8591-C271F3DF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54455-BC92-45DE-9364-E5CA2799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0F64B-F0B7-4DEA-8819-6946FADE1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59953-D294-4CEB-B51C-06F6BEE2B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7ADB1-D34B-4A6C-BF0D-39AA1D22A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BE784-3819-4972-B0AA-CC545B81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4DA6A-D0D4-4F6E-A119-C3AD851E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A73F0-5F69-4AA0-91FB-F179C107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77609-2530-47E1-9AB5-EC29CEF9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8DC2-5BFA-4955-9F8C-544820E2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77DA8-6C70-470F-B6F6-59F52476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8DFAD-3DEA-4E5F-A5EA-51EE0D69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0A32E-1A06-4FDF-99DB-96340F4F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706C9-4E60-4DDE-B41F-8B16B28D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BE4F8-2AF3-4FFF-BF24-2DC1EB62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DEE24-8564-4E43-869E-D7BC478E6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DFB09-8CAE-4487-89EC-E5F2D5F7B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BC144-56C0-4CC4-A400-548A5C130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E044C-7309-424D-B760-B11176DC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FBE55-F6C9-450B-9F0B-01D2E9E2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EF36-34F2-4D38-A0A7-84B4D6A016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DFBB-2E65-4B41-BF12-E396D6643C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43F1-3F63-4784-B45F-788AED990F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FDD1-7D80-476A-9B2C-492E3F350E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448E-DA5E-49ED-B764-29C46A9671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3EAE-8129-4147-9E3C-EA97D898F0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74A8-8266-46FE-B58E-7711E3E8C2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75A7-B709-4941-A5A6-B4A8D3DEB5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3A67-E2F6-429D-967D-8EB18EB3B4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D91C-0D47-4F45-BFC7-C0DBA85AF5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5254-7CE9-4918-8D54-0B2DD4520E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78AC-73EB-40ED-B804-4D3C72B8D9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CAF8-1E1A-4F9A-98D6-BF06566190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6CBE-4F4C-4B25-925C-D34D41BB23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C520-BEB4-4DAD-963D-522A78D5E7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EF7D-FB99-4631-8A84-61363F8D2D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AA79-803D-4333-8FBB-EF66D022B5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D362-45A7-4FB5-BA6F-7E34A94BCF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E880-8526-424A-B23F-0DC6C1C384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376E-D115-462A-A716-36A9CA5C63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6128-30A0-480E-8F75-F689DFCE3F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4EA1-D5E3-4ABF-AEE7-9632F6BCA6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9445-4CC1-453E-BD02-259AC3F4F7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6B62-0AC2-4938-A0E9-7F1653DD3D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07BE-3AFD-476A-950B-9B61A06215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8D9F-86E8-4A15-8D6D-0A6C85F03A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DED0-760C-41D4-BA7B-7F978BB8BA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B936-FA41-4890-A694-14D3351D14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1ABA-1650-4646-A8E5-101B3C5624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E1BC-1B52-46E0-9416-31062C56D9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E79D-2FAD-485B-9D8E-7AC06A6ED2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11DB-5FE0-45C8-8741-9D24B03B8D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DBEE-B8E9-43F6-9564-224DBA0222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994A-E045-4511-88A2-CD82816842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9BC46-82D3-4F93-91F7-1CBBDB10C7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00D7-F1AA-47C3-BF5C-9D6DD622FE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948F-8F7B-4D08-8B38-6DCB6EF028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6D76-83E4-4CC7-88FC-BEA2F7FCEA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097A-84EB-41CD-B8A5-061394509E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ADC1-22BB-4247-8D4D-C7DA27DAD3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428920" y="3181320"/>
            <a:ext cx="428616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23840" y="785880"/>
            <a:ext cx="8896320" cy="52862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468360" y="1887480"/>
            <a:ext cx="3095640" cy="2574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468360" y="2238480"/>
            <a:ext cx="3095640" cy="2570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539640" y="2565360"/>
            <a:ext cx="3095640" cy="2570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755640" y="4014720"/>
            <a:ext cx="3095640" cy="2574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755640" y="4356000"/>
            <a:ext cx="3095640" cy="2574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684360" y="5373720"/>
            <a:ext cx="3095640" cy="2570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684360" y="5699160"/>
            <a:ext cx="309564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9410" descr=""/>
          <p:cNvPicPr/>
          <p:nvPr/>
        </p:nvPicPr>
        <p:blipFill>
          <a:blip r:embed="rId1"/>
          <a:stretch/>
        </p:blipFill>
        <p:spPr>
          <a:xfrm>
            <a:off x="157320" y="262080"/>
            <a:ext cx="8829360" cy="6333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2"/>
          <a:stretch/>
        </p:blipFill>
        <p:spPr>
          <a:xfrm>
            <a:off x="468360" y="2266920"/>
            <a:ext cx="3166920" cy="2570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3"/>
          <a:stretch/>
        </p:blipFill>
        <p:spPr>
          <a:xfrm>
            <a:off x="395280" y="2598840"/>
            <a:ext cx="3166920" cy="2570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4"/>
          <a:stretch/>
        </p:blipFill>
        <p:spPr>
          <a:xfrm>
            <a:off x="468360" y="2933640"/>
            <a:ext cx="3166920" cy="2574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5"/>
          <a:stretch/>
        </p:blipFill>
        <p:spPr>
          <a:xfrm>
            <a:off x="395280" y="4048200"/>
            <a:ext cx="3166920" cy="2570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6"/>
          <a:stretch/>
        </p:blipFill>
        <p:spPr>
          <a:xfrm>
            <a:off x="250920" y="4375080"/>
            <a:ext cx="3166920" cy="2574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7"/>
          <a:stretch/>
        </p:blipFill>
        <p:spPr>
          <a:xfrm>
            <a:off x="324000" y="4734000"/>
            <a:ext cx="3166920" cy="2570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8"/>
          <a:stretch/>
        </p:blipFill>
        <p:spPr>
          <a:xfrm>
            <a:off x="611280" y="5950080"/>
            <a:ext cx="3166920" cy="2570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9"/>
          <a:stretch/>
        </p:blipFill>
        <p:spPr>
          <a:xfrm>
            <a:off x="611280" y="6280200"/>
            <a:ext cx="4897440" cy="2570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0"/>
          <a:stretch/>
        </p:blipFill>
        <p:spPr>
          <a:xfrm>
            <a:off x="8317080" y="343836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1"/>
          <a:stretch/>
        </p:blipFill>
        <p:spPr>
          <a:xfrm>
            <a:off x="8317080" y="386064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12"/>
          <a:stretch/>
        </p:blipFill>
        <p:spPr>
          <a:xfrm>
            <a:off x="8317080" y="428292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13"/>
          <a:stretch/>
        </p:blipFill>
        <p:spPr>
          <a:xfrm>
            <a:off x="8244000" y="4662360"/>
            <a:ext cx="720720" cy="25740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14"/>
          <a:stretch/>
        </p:blipFill>
        <p:spPr>
          <a:xfrm>
            <a:off x="8253360" y="5084640"/>
            <a:ext cx="720720" cy="2574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15"/>
          <a:stretch/>
        </p:blipFill>
        <p:spPr>
          <a:xfrm>
            <a:off x="8317080" y="5506920"/>
            <a:ext cx="720720" cy="25740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16"/>
          <a:stretch/>
        </p:blipFill>
        <p:spPr>
          <a:xfrm>
            <a:off x="8244000" y="5940360"/>
            <a:ext cx="720720" cy="2574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17"/>
          <a:stretch/>
        </p:blipFill>
        <p:spPr>
          <a:xfrm>
            <a:off x="8317080" y="6346800"/>
            <a:ext cx="72072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2:00:16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